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63C-5CB5-40B7-BBC5-C374ADF6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AFC3-A707-40FD-9B7A-93CA1E2CE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1E57-86D1-4B42-B883-5DB18718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B2C26-AD07-4B13-8F54-C787828AB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4979A-EB64-4296-B96D-2B28912C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343D2-091C-47B7-9DDC-32F1B613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81B9-35B5-49DC-9AD6-FEBB8C7A4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1E31-64E5-43E6-A10C-8826C1AF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110-1448-47A0-A948-C76E535A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0C87-24EF-4D58-8AC2-04082F29E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05B5-9CE5-4DA5-8D3A-A8E1FF11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B69B-F03F-4C51-AB08-98CE146F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9119E-F9E9-4122-A5A2-E7CDCF6993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in Multi-Ethnic Soc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Lanka &amp; 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3 University Admiss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1970, entry into university was merit-based and it benefited the English-edu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ortion of Tamils entering university was higher than Sinhalese in terms of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most equal number of Tamils and Sinhalese entered the more respected courses (medicine and engineer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3 University Admission Criter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1970, a new admission criteria was introduc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ils had to score more than Sinhal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ces in university were reserved for Sinhal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mission was no longer merit-b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4 Re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n Tamil population were concentrated in the highland distr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Lankan Tamil population make up 95% of the Jaffna peninsu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ese are found in large numbers everywhere except Jaffna and Battica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4 Re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ttlement Policy (1950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ese peasants transferred from densely populated areas to Tami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ese peasants given land to cultiv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ddhist monks and the Sri Lankan army (mostly Sinhalese) also occupied Tamil 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4 Resett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le Tamil villages were empti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ese moved into land that belonged to Tami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lers were also arm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the Sinhalese and Tamils in Confli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 Citizenship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 ‘Sinhala Only’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 University Admission Crite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4 Resett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Citizenship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ylon Citizenship Act passed (194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tizenship granted to people born in Sri La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n Tamils became state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an Tamils did not have basic citizenship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Indians still worked on plantations and contributed to the Sri Lankan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371600" y="4038480"/>
          <a:ext cx="6172200" cy="893880"/>
        </p:xfrm>
        <a:graphic>
          <a:graphicData uri="http://schemas.openxmlformats.org/drawingml/2006/table">
            <a:tbl>
              <a:tblPr/>
              <a:tblGrid>
                <a:gridCol w="3086280"/>
                <a:gridCol w="30859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ing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t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lvl="1" marL="457200"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–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b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Citizenship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helps stateless Indian Tamils (196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ertain number return to Ind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 to be granted Sri Lankan citize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not fully carried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0,000 Indian Tamils remain stat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Citizenship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nt of Citizenship to Persons of Indian Origin Bill passed (20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zenship given to any person of Indian origin who have stayed in Sri Lanka since 19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 ‘Sinhala Only’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 British rule, English-educated Tamils had powerful jobs in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ese were disadvantaged as they could not read or write English w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 ‘Sinhala Only’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a declared official language under Official Language Act (195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hala used in admini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ils given 3 years to learn Sinhala or be dismiss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ils upset as they found it difficult to find jobs or be promo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 ‘Sinhala Only’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ful demonstration held but disrup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oting occurred and deaths resul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ri Lankan govt and Tamil leader sign pact (195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il made language of administration in Northern and Eastern areas where most Tamils li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nsions still incr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2 ‘Sinhala Only’ Polic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n, Sri Lankan constitution has granted greater recognition to the Tamil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Northern and Eastern provinces, Tamil 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ation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guage of Admin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ial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23:45:53Z</dcterms:created>
  <dc:creator>moe</dc:creator>
  <dc:description/>
  <dc:language>en-US</dc:language>
  <cp:lastModifiedBy>moe</cp:lastModifiedBy>
  <dcterms:modified xsi:type="dcterms:W3CDTF">2009-01-19T02:39:52Z</dcterms:modified>
  <cp:revision>7</cp:revision>
  <dc:subject/>
  <dc:title>Conflict in Multi-Ethnic Societies</dc:title>
</cp:coreProperties>
</file>